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382-1140-47B6-AD65-DEF0EF711DE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609F-64DA-4E01-BFEC-D2A0D39C831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BD5C-12CE-499E-B4AA-A70F352357B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ll neeed to choose the most appropriate tool on what it is they are measuring, eg: understanding of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998-87A9-45F9-A94C-E0403926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03F-4842-4AE5-8ECE-F6D3E90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F988-7FAE-479A-8796-4FB3F13F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0ED7B-3A10-4D10-9135-7F6772D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CA2BE-5B56-4A58-8A66-78A8856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2CA0D-6197-44B3-A478-D43F43C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B5B1-D1D4-432A-9339-2CE3108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6ADE-F562-425B-BF3F-9C297B3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4251-B392-48E9-AB54-FBB6A5F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FDB9F-71A4-4D75-B2A9-A330CE64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09C41-859C-437D-80CA-15C37EB4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924-2BE6-4779-A9D3-D7FBD175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751-A22D-4FCA-8ACA-9BCD0BC8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AB8-D23D-4549-B900-B85B87B3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FA5B-08F0-484D-8785-C641B940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DF4-857A-4C22-8CEB-0F03A982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FEF-37ED-4F24-8847-9C8E1630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9FB0-2694-4F9F-8515-221C320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293-E057-4FD5-A4CD-ED63D6F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843C-2465-4EB6-898C-EBD9A80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C05-5B66-4B8F-B672-D971982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EA6B-34EA-45E9-880D-E66EBE0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01C-0DF8-44BD-9AE2-3713D24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EE7A-2306-42CB-BC91-965A5BF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1344-5AE8-4E26-A308-A30C3189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900-CA03-467C-A31D-77504DC7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0510-30F1-447E-8D75-5C9BA946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1A0A-681B-4426-83DB-2A3FC21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6353-F524-4F7E-A521-9BD9411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12A8-2340-40D8-A9D7-8B0BDAAB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0103-553B-46B1-A5EF-9BD9A82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A44-6D2F-4F95-9F9F-6B98E01B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B8EB-300E-4FC1-A2D0-A7107D0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D980-63BD-4D24-AB9D-1B366DA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5918-B42B-4B50-8FDE-AC8648A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9FD2-7566-4C8E-A138-1F6DBEC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EA07-1376-4156-A543-E01BF25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E142-8FB3-4F2B-83A7-A0EF66F1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EB9D5-DFD6-405E-83B1-B07069D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68FA-C463-4029-8AA8-6AF45EA4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6991-8F21-4368-86B9-7B47017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EF7C-C9A1-4500-8E11-14F0B251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E65-5854-443F-BFCD-C33235F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8F21-66D2-4F0D-88F7-E79BF6DE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9FE8-8EF7-450B-B98F-363BB02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CE8A-3C17-4484-A1F8-328789B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DD84-C621-4437-A2AF-12506F0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1B96-CCDD-4F4F-B53E-036FB61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0C9D-2F5B-4F03-A951-DD8DDA1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A758-158B-44C7-8092-439395B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90854-3254-4096-95DF-179FAAAF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587E-487B-4523-A532-351FA2F6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E597-CFB0-4200-AC75-BD6F838E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91E-8251-4474-BA1A-25C1FD7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6A39-2BA6-4F30-90A1-CDD320C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0154-7D41-4358-BC26-85314D9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3ABE-A335-4C76-833C-2BF6727C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9E33-0743-453C-83AB-BD80ECE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67FA-386A-49BC-936A-EB6FB98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5BD2-B2B3-447A-A80D-FA5A0C2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FA89-36AA-4782-9103-F44F4EC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E849-855D-4B74-A8D4-374C711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98F2-955A-46CD-9278-4172762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E5F8B-9DB4-471E-AE8E-46330F50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72B-2CCD-4173-A971-FC449BF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3924-B7E5-4E21-B3BF-F7D1519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7ECB2-E4AB-4CAC-AC45-FA12AAD2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CAA8-EFF9-4A79-AF71-A96CD624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5BDAA-72C5-4A9B-8FC7-413E2E9C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93B4-9059-4099-833A-DDC67B1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74DF-168B-417F-9DC6-D2CC7D5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F900-BB24-4791-9D11-096DED14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963E-BED9-4B90-898D-4C0B7B1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30C9-DB3F-4F2F-BC82-19BAC1A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FE8E-67FF-4242-BB61-11C75A7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4F7-2677-4199-B15E-5FC09A0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FBB1-CB34-424E-83BC-BB97C5A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059C-7C8C-48B8-8B50-505F3527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7DBB-9D1F-470F-BD10-36DC8BE7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59BA3-BB76-4F73-A958-B0B6540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A1105-FBE6-4718-B279-C480753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797D-172D-4B65-AFA2-887F31E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51688-30BE-4B17-90A4-A9F2D0B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1303-EC39-483D-8C19-67F38454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0E6B-92FC-4785-8ED7-E9628D8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13B5-45B6-4FAA-8A11-458D50B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CD3-1F54-46CC-B285-87EF908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A6115-FA2D-4FBD-BFF0-7FA02F7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C477-9139-4590-861C-54C96D9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C5CF-5BA2-4152-901C-81907DC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D5A8-A104-4869-84BC-E48C09BF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EC0ED-C461-4E0E-9016-0B6620CC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7967-9A23-4283-8872-2841E643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B149-BD49-48C3-BD86-498125D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FEDF-005E-4943-8CB2-D12A776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552D-6DE9-4B60-B838-74E4BA1E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E4A5-28B2-453D-8856-F0562D9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8D3-2ECA-4BD4-A47B-CE7CC08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BFE5-BB9E-48A9-8848-F31EBBA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164B-587D-41D4-8B25-4FA7429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2574-A75A-4721-B720-64DC3740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DBA7-8C42-44B8-9E7D-E3EED24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9FF1-52B2-4161-8072-1A6C3ED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D612-6F36-4D1B-8089-AD0B363D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B404-25E2-4F90-8EF2-49255329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2A24B-7AC4-49E4-B833-F5478C98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D135-87C8-42BB-9D30-5180346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B352-01D8-45AE-967F-83E065D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49D-BD2F-478C-A57E-B15C1D0D61C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08F-0FED-43FF-BF72-B7CE6A4B99A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A57-7997-4D18-B4E1-C8014395F4D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A150-1613-4A82-88B2-66B0276BB4D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BADC-9E05-459B-94C9-70417BB218F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342C-9488-4D88-9B1C-D166B7E3FC2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767B-9291-45A3-9BBA-CBB2525C439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9600-9CA6-440A-8F5A-A51646D9638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8D4-F0C9-4435-B831-3E90D747E87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z.harvard.edu/vt/VisibleThinking_html_files/03_ThinkingRoutines/03c_CoreRoutine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Gill Sans MT"/>
              </a:rPr>
              <a:t>Exploring Evidence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Content Placeholder 3" descr="evidence.jpg"/>
          <p:cNvPicPr/>
          <p:nvPr/>
        </p:nvPicPr>
        <p:blipFill>
          <a:blip r:embed="rId2"/>
          <a:stretch/>
        </p:blipFill>
        <p:spPr>
          <a:xfrm>
            <a:off x="3429000" y="2500200"/>
            <a:ext cx="3548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Evidence in relation to what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that shows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growth ove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of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impact of an 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of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learning in relation to your success indic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615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Pre/Post comparis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71360" y="928440"/>
            <a:ext cx="77482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eb80a"/>
                </a:solidFill>
                <a:latin typeface="Gill Sans MT"/>
              </a:rPr>
              <a:t>Eg A Mind Mapping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student success indicator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knowledge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and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 understanding of a concept/big ide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Use at the beginning, middle and end of a unit to </a:t>
            </a:r>
            <a:r>
              <a:rPr b="0" lang="en-AU" sz="2000" spc="-1" strike="noStrike">
                <a:solidFill>
                  <a:srgbClr val="ff0000"/>
                </a:solidFill>
                <a:latin typeface="Gill Sans MT"/>
              </a:rPr>
              <a:t>monitor growth over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teacher success indicators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growth in understanding and use of a pedagogical pract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1000080" y="40006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86200" y="3786120"/>
            <a:ext cx="4105440" cy="273528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6">
            <a:hlinkClick r:id="rId4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Pre/Post comparis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b80a"/>
                </a:solidFill>
                <a:latin typeface="Gill Sans MT"/>
              </a:rPr>
              <a:t>Eg Thinking Routin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I used to think…….. But now I think…..</a:t>
            </a:r>
            <a:r>
              <a:rPr b="0" lang="en-AU" sz="2000" spc="-1" strike="noStrike">
                <a:solidFill>
                  <a:srgbClr val="feb80a"/>
                </a:solidFill>
                <a:latin typeface="Gill Sans MT"/>
              </a:rPr>
              <a:t> and then to explain shifts in thinkin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a student success indicato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change in 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understanding of a concept/big idea or a way of lear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Use at the beginning, middle and end of a unit to </a:t>
            </a:r>
            <a:r>
              <a:rPr b="0" lang="en-AU" sz="2000" spc="-1" strike="noStrike">
                <a:solidFill>
                  <a:srgbClr val="ff0000"/>
                </a:solidFill>
                <a:latin typeface="Gill Sans MT"/>
              </a:rPr>
              <a:t>monitor growth over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a teacher success indicator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growth in understanding of a key concept or pedagogical pract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eb80a"/>
                </a:solidFill>
                <a:latin typeface="Gill Sans MT"/>
              </a:rPr>
              <a:t>(How might you capture this….. as audio, video, annotated samp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5338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Au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2" name="Picture 4" descr="audit1"/>
          <p:cNvPicPr/>
          <p:nvPr/>
        </p:nvPicPr>
        <p:blipFill>
          <a:blip r:embed="rId2"/>
          <a:stretch/>
        </p:blipFill>
        <p:spPr>
          <a:xfrm>
            <a:off x="1285920" y="928800"/>
            <a:ext cx="7219800" cy="45259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1071720" y="58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the extent which particular professional learning structures or strategies are known and being used to enable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4720" y="115920"/>
            <a:ext cx="5338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Au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5" name="Picture 6" descr="audit feedback"/>
          <p:cNvPicPr/>
          <p:nvPr/>
        </p:nvPicPr>
        <p:blipFill>
          <a:blip r:embed="rId2"/>
          <a:stretch/>
        </p:blipFill>
        <p:spPr>
          <a:xfrm>
            <a:off x="1000080" y="285840"/>
            <a:ext cx="5648400" cy="53276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7"/>
          <p:cNvSpPr/>
          <p:nvPr/>
        </p:nvSpPr>
        <p:spPr>
          <a:xfrm>
            <a:off x="6622920" y="785880"/>
            <a:ext cx="252108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the extent which particular strategies are known and being used to enable learning and to measure change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ool is used to gather evidence in relation to a particular teacher success indi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cher Success Indica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 and use feedback to promote reflection and learning for both teachers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1000080" y="857160"/>
            <a:ext cx="165744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57320" y="142920"/>
            <a:ext cx="533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feb80a"/>
                </a:solidFill>
                <a:latin typeface="Gill Sans MT"/>
              </a:rPr>
              <a:t>Likert Sca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9" name="Picture 6" descr="likert scale"/>
          <p:cNvPicPr/>
          <p:nvPr/>
        </p:nvPicPr>
        <p:blipFill>
          <a:blip r:embed="rId2"/>
          <a:srcRect l="5094" t="0" r="8625" b="0"/>
          <a:stretch/>
        </p:blipFill>
        <p:spPr>
          <a:xfrm>
            <a:off x="1000080" y="785880"/>
            <a:ext cx="542916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6012000" y="134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6500880" y="928800"/>
            <a:ext cx="251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 To self assess practice using a rating scale and to measure change over time. This rating needs to be 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tool could be used to gather </a:t>
            </a:r>
            <a:r>
              <a:rPr b="0" lang="en-US" sz="1800" spc="-1" strike="noStrike" u="sng">
                <a:solidFill>
                  <a:srgbClr val="feb80a"/>
                </a:solidFill>
                <a:uFillTx/>
                <a:latin typeface="Arial"/>
              </a:rPr>
              <a:t>base line 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relation Teachers Success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tool could also be adapted for students to self assess a particular skill, level of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Frequency of U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3" name="Picture 4" descr="frequency of use"/>
          <p:cNvPicPr/>
          <p:nvPr/>
        </p:nvPicPr>
        <p:blipFill>
          <a:blip r:embed="rId2"/>
          <a:srcRect l="3087" t="0" r="0" b="0"/>
          <a:stretch/>
        </p:blipFill>
        <p:spPr>
          <a:xfrm>
            <a:off x="1000080" y="857160"/>
            <a:ext cx="5529240" cy="45259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"/>
          <p:cNvSpPr/>
          <p:nvPr/>
        </p:nvSpPr>
        <p:spPr>
          <a:xfrm>
            <a:off x="6215040" y="1428840"/>
            <a:ext cx="28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how often particular practices, strategies or contemporary tools are used and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asure the change in use over time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tool could be used to gather </a:t>
            </a:r>
            <a:r>
              <a:rPr b="0" lang="en-US" sz="1800" spc="-1" strike="noStrike" u="sng">
                <a:solidFill>
                  <a:srgbClr val="feb80a"/>
                </a:solidFill>
                <a:uFillTx/>
                <a:latin typeface="Arial"/>
              </a:rPr>
              <a:t>base line 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relation to the follow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cher Success Indica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will….Model reflective thinking routines and provide opportunities for students to use these routines to promote deep understand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 rot="2000400">
            <a:off x="4995360" y="4125960"/>
            <a:ext cx="1079640" cy="287280"/>
          </a:xfrm>
          <a:prstGeom prst="leftArrow">
            <a:avLst>
              <a:gd name="adj1" fmla="val 50000"/>
              <a:gd name="adj2" fmla="val 9395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eb80a"/>
                </a:solidFill>
                <a:latin typeface="Gill Sans MT"/>
              </a:rPr>
              <a:t>Google Online for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0008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dit of contemporary t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8" name="Picture 4" descr="audit of contemporary tools"/>
          <p:cNvPicPr/>
          <p:nvPr/>
        </p:nvPicPr>
        <p:blipFill>
          <a:blip r:embed="rId2"/>
          <a:stretch/>
        </p:blipFill>
        <p:spPr>
          <a:xfrm>
            <a:off x="5857920" y="214200"/>
            <a:ext cx="2684520" cy="3916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contemporary tool graph"/>
          <p:cNvPicPr/>
          <p:nvPr/>
        </p:nvPicPr>
        <p:blipFill>
          <a:blip r:embed="rId3"/>
          <a:srcRect l="3147" t="0" r="0" b="0"/>
          <a:stretch/>
        </p:blipFill>
        <p:spPr>
          <a:xfrm>
            <a:off x="1000080" y="2500200"/>
            <a:ext cx="4394160" cy="33829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6858000" y="378612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rpose: To gather </a:t>
            </a:r>
            <a:r>
              <a:rPr b="0" lang="en-US" sz="1800" spc="-1" strike="noStrike">
                <a:solidFill>
                  <a:srgbClr val="feb80a"/>
                </a:solidFill>
                <a:latin typeface="Arial"/>
              </a:rPr>
              <a:t>baseline dat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nd measure </a:t>
            </a:r>
            <a:r>
              <a:rPr b="0" lang="en-US" sz="1800" spc="-1" strike="noStrike">
                <a:solidFill>
                  <a:srgbClr val="feb80a"/>
                </a:solidFill>
                <a:latin typeface="Arial"/>
              </a:rPr>
              <a:t>change over tim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n relation to the familiarity and use of particular contemporary tool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adapted to gather other kinds of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Wiki ~Ongoing reflec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2" name="Picture 4" descr="teacher reflection wiki"/>
          <p:cNvPicPr/>
          <p:nvPr/>
        </p:nvPicPr>
        <p:blipFill>
          <a:blip r:embed="rId2"/>
          <a:stretch/>
        </p:blipFill>
        <p:spPr>
          <a:xfrm>
            <a:off x="1071720" y="1214280"/>
            <a:ext cx="4257360" cy="3629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teacher reflection wiki2"/>
          <p:cNvPicPr/>
          <p:nvPr/>
        </p:nvPicPr>
        <p:blipFill>
          <a:blip r:embed="rId3"/>
          <a:stretch/>
        </p:blipFill>
        <p:spPr>
          <a:xfrm>
            <a:off x="4857840" y="3000240"/>
            <a:ext cx="4038480" cy="37036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"/>
          <p:cNvSpPr/>
          <p:nvPr/>
        </p:nvSpPr>
        <p:spPr>
          <a:xfrm>
            <a:off x="6012000" y="1268280"/>
            <a:ext cx="26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rpose: Monitor growth and change in thinking and behaviour through ongoing teacher reflection through the wiki (**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lso could be used for stud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Understandings of perform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Unit based assessments (of, for, as) provide evidence in relation to student success indicato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Captur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Annotated s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Video &amp; audio form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On wiki, my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Refl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7" name="Picture 4" descr="student video"/>
          <p:cNvPicPr/>
          <p:nvPr/>
        </p:nvPicPr>
        <p:blipFill>
          <a:blip r:embed="rId2"/>
          <a:stretch/>
        </p:blipFill>
        <p:spPr>
          <a:xfrm>
            <a:off x="5286240" y="2214720"/>
            <a:ext cx="33912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3920" y="1857240"/>
            <a:ext cx="764388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b80a"/>
                </a:solidFill>
                <a:latin typeface="Gill Sans MT"/>
              </a:rPr>
              <a:t>What is evidence?</a:t>
            </a:r>
            <a:endParaRPr b="0" lang="en-US" sz="8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19280" y="333360"/>
            <a:ext cx="3025800" cy="1712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6372360" y="4148280"/>
            <a:ext cx="24098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29228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Gill Sans MT"/>
              </a:rPr>
              <a:t>Reflection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12" descr="journal-entries"/>
          <p:cNvPicPr/>
          <p:nvPr/>
        </p:nvPicPr>
        <p:blipFill>
          <a:blip r:embed="rId2"/>
          <a:stretch/>
        </p:blipFill>
        <p:spPr>
          <a:xfrm>
            <a:off x="1071720" y="1131840"/>
            <a:ext cx="5000400" cy="3537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6"/>
          <p:cNvSpPr/>
          <p:nvPr/>
        </p:nvSpPr>
        <p:spPr>
          <a:xfrm>
            <a:off x="6215040" y="714240"/>
            <a:ext cx="2590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rpose: To gather evidence in relation to the following student success indic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use new language and apply their learning to new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use feedback to direct furth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71720" y="485784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Arial"/>
              </a:rPr>
              <a:t>‘… </a:t>
            </a:r>
            <a:r>
              <a:rPr b="0" lang="en-US" sz="1800" spc="-1" strike="noStrike">
                <a:solidFill>
                  <a:srgbClr val="922223"/>
                </a:solidFill>
                <a:latin typeface="Arial"/>
              </a:rPr>
              <a:t>the idea is not that one artefact from the classroom be shared as absolute proof of teaching or learning, but rather that a variety of artefacts collected over time could create a convincing argument that important learning is taking place and that a particular teaching practice is effective.’ </a:t>
            </a:r>
            <a:r>
              <a:rPr b="0" i="1" lang="en-US" sz="1800" spc="-1" strike="noStrike">
                <a:solidFill>
                  <a:srgbClr val="922223"/>
                </a:solidFill>
                <a:latin typeface="Arial"/>
              </a:rPr>
              <a:t>(Ref: The Evidence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Gill Sans MT"/>
              </a:rPr>
              <a:t>Existing data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hool Improvement Planning d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Existing literacy and numeracy d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o show growth ove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at other types of data do you gather in your school? How do you use i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3868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The evidence of learning that is collected should enable teachers to make judgements about what individual students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know, can do and understand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in relation to the learning outco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In planning assessment opportunities, teachers should be aware of the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individual needs of students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87280" y="333000"/>
            <a:ext cx="77472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b80a"/>
                </a:solidFill>
                <a:latin typeface="Gill Sans MT"/>
              </a:rPr>
              <a:t>Teachers could conside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ways in which individual students communic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time required for individual students to communic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support and/or adjustments required to enable individual students to demonstrate their knowledge, skills and understanding in relation to the selected outco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suitability of one or more assessment strategies for the phase of learning and for the knowledge, skills and understanding that are to be asses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criteria for assessment to be used to make judgements about what individual students know, can do and understand in relation to the outcom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15640" y="620640"/>
            <a:ext cx="4103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b80a"/>
                </a:solidFill>
                <a:latin typeface="Gill Sans MT"/>
              </a:rPr>
              <a:t>Is there a difference between data and evidence?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866960" cy="3025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435640" y="549360"/>
            <a:ext cx="3541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00000" y="18446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b80a"/>
                </a:solidFill>
                <a:latin typeface="Arial"/>
              </a:rPr>
              <a:t>How can we use evidenc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700360" y="4365720"/>
            <a:ext cx="4932360" cy="2293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658880" y="260280"/>
            <a:ext cx="2370240" cy="1778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rcRect l="0" t="0" r="7253" b="0"/>
          <a:stretch/>
        </p:blipFill>
        <p:spPr>
          <a:xfrm>
            <a:off x="5913360" y="189000"/>
            <a:ext cx="2737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b80a"/>
                </a:solidFill>
                <a:latin typeface="Gill Sans MT"/>
              </a:rPr>
              <a:t>Evidence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en-US" sz="5400" spc="-1" strike="noStrike">
                <a:solidFill>
                  <a:srgbClr val="feb80a"/>
                </a:solidFill>
                <a:latin typeface="Gill Sans MT"/>
              </a:rPr>
              <a:t>Proces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916280"/>
            <a:ext cx="74995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13204"/>
                </a:solidFill>
                <a:latin typeface="Gill Sans MT"/>
              </a:rPr>
              <a:t>Central to this process is the belief that the </a:t>
            </a:r>
            <a:r>
              <a:rPr b="0" i="1" lang="en-US" sz="3200" spc="-1" strike="noStrike">
                <a:solidFill>
                  <a:srgbClr val="feb80a"/>
                </a:solidFill>
                <a:latin typeface="Gill Sans MT"/>
              </a:rPr>
              <a:t>critical examination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713204"/>
                </a:solidFill>
                <a:latin typeface="Gill Sans MT"/>
              </a:rPr>
              <a:t>of teaching and learning evolves most productively from the close examination of evidence that comes from an </a:t>
            </a:r>
            <a:r>
              <a:rPr b="0" i="1" lang="en-US" sz="3200" spc="-1" strike="noStrike">
                <a:solidFill>
                  <a:srgbClr val="feb80a"/>
                </a:solidFill>
                <a:latin typeface="Gill Sans MT"/>
              </a:rPr>
              <a:t>educator’s own work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What counts as evidenc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may be samples of student work, observations of students, curriculum plans, interviews with students, observations by colleagues, video &amp; audio capturing student or teacher learning/reflections –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anything that will help you get clearer about your question or foc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Ref: The Evidence Process. A Collaborative Approach to Understanding and Improving Teaching and Learning (Project Zero~ Harvard School of Educatio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116000" y="476280"/>
            <a:ext cx="770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eb80a"/>
                </a:solidFill>
                <a:latin typeface="Gill Sans MT"/>
              </a:rPr>
              <a:t>Evidence can be in any form</a:t>
            </a: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, includ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informal writings and reflections, videos, websites developed, </a:t>
            </a:r>
            <a:r>
              <a:rPr b="0" lang="en-AU" sz="2800" spc="-1" strike="noStrike">
                <a:solidFill>
                  <a:srgbClr val="800000"/>
                </a:solidFill>
                <a:latin typeface="Gill Sans MT"/>
              </a:rPr>
              <a:t>negotiated tasks with negotiated assessment criteria, self assessment and reflection, group assessment, portfolios, learning journals, observations, presentations, demonstrations, peer evaluations, </a:t>
            </a: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letters of recommendation from supervisors in an internship or community project, a journal you have kept, formal papers, programs you have participated in, self-analysis, the list of possibilities is endles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eb80a"/>
                </a:solidFill>
                <a:latin typeface="Gill Sans MT"/>
              </a:rPr>
              <a:t>The presentation and format of the evidence are limited only by your own creativi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25:51Z</dcterms:created>
  <dc:creator>JCollins</dc:creator>
  <dc:description/>
  <dc:language>en-US</dc:language>
  <cp:lastModifiedBy>kmiller</cp:lastModifiedBy>
  <dcterms:modified xsi:type="dcterms:W3CDTF">2010-07-29T13:33:28Z</dcterms:modified>
  <cp:revision>19</cp:revision>
  <dc:subject/>
  <dc:title>Evidence</dc:title>
</cp:coreProperties>
</file>